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293-5177-4F70-8701-B1CDE98D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542-A216-4EBF-AE94-5AE4465B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685-39E4-4FA3-A2C5-FC2C2CF5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9E0-D29B-434F-BA3C-B5EDF0BE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3362-0F9F-407A-81C9-1FE36982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6988-3932-412D-9A5F-8C2F1A0A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86FF-0161-488E-AF7E-E6E9728A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7107-E988-4981-A1DC-424A2F33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763D-B6DC-41DB-AC91-77E1978B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BB31-B420-4CD2-B36C-FB6B0176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92FE-FBB2-49BD-8FB6-A38292DE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B96-67D7-44FE-898E-2B4C8843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E022-8EC2-4E1E-B74F-F3F4BF81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E93E-EBA7-4FF4-8269-C0102689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E000-F5AF-4882-8E71-6C8C3D16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674A-8CC2-4DB6-BE12-2EFB2343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5677-42BB-4075-BB2D-698F03C3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DBF-2465-4D37-86EC-12B60FE0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58D-6493-4940-9953-37FDE983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90D-09CB-4574-89A2-2EDDE65A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850-EEF3-40B1-87BC-546BC6ED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338-2402-4251-9273-8FB4F45F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AA1-9729-497F-B979-2333055F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F7A-73F9-4715-8F0C-AC70AF09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5300-71F9-4302-9C27-1150962C66E8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BD5F-8774-4410-8A93-802E19846017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Ri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What type of government does Puerto Rico have?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 Gover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When was Puerto Rico discover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mber 19, 14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When was Emancipation Slavery abolished from slavery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22, 187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What is one ingredient in the main dish of Puerto Ric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12520" y="2209320"/>
            <a:ext cx="7692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ive 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n pe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ushed gar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riz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cken bro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ck p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 pe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What is one ingredient in the soup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6280" y="2209320"/>
            <a:ext cx="7692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ive 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ato sa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mp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538280"/>
                <a:gridCol w="1538280"/>
                <a:gridCol w="1540080"/>
                <a:gridCol w="1538280"/>
                <a:gridCol w="1538280"/>
              </a:tblGrid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  What is the country that the PowerPoint and the poster was abou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uerto Ric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What is the name of our teache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ora Cer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What is one of the branches of the governmen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i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4. What is one of the Holidays that is celebrated in Puerto Rico And United States?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’s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hington’s Birth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ial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ce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umbus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erans D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sgiving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o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What is one famous person in Puerto Ric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erto Cle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 Anth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nnifer Lope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ymond Ay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ctor Elizon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How many people live in Puerto Ric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916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What country is Puerto Rico unincorporated with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Sonam</cp:lastModifiedBy>
  <dcterms:modified xsi:type="dcterms:W3CDTF">2010-10-13T00:46:23Z</dcterms:modified>
  <cp:revision>7</cp:revision>
  <dc:subject/>
  <dc:title>Twenty Questions</dc:title>
</cp:coreProperties>
</file>